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9310-04CC-4435-83E3-301F39A54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step of financial planning should be made by both spouses (or future spouses in the case of engaged couples). A prerequisite for this co-planning is communication. In addition to communicating about everyday financial decisions, couples should communicate about broader financial ideas as well. For exam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ower? Security? Luxury?</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ere would you like to be giving? What types of ministries and charitie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at would you do?</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f burners - how do you control spending? If both pinchers - is giving difficult? One of each? Does it cause conflict?</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s there a plan to get rid of the debt?</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at about long-term financial goal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en? How will it be supported? What will you do?</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argest house? Fanciest car? Fastest computer? Largest TV?</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ill require expense and possible loss of incom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ay for first car? College? Wedding? House down payment? Leave your legacy</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 going to be walking a fine line here - this is financial advice, not parenting advice. It is based on what I have experienced and read, though I want y’all to also feel free to give your experiences as far as what has and has not work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st like their parents, children need to know about the three parts of stewardship. For each part, children also need to know that their parents are being faithful stewards as well. Be sure that your children see you sacrificing, saving, and spending wisely and incorporate them into as many family discussions about finances as are appropriate for their age. Early starts are important, and educating children on money management will give them a terrific step up once they are on their ow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pecially as they start to have an income, whether from allowance or job, help them by holding them accountable with how they spend their money. Help make sure they have the resources to work on their skills (e.g. — set up a savings account for them</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 we’ve got 35% of undergrads getting their first credit card in colle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3% of students graduate without having experience with a checking accoun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st example:</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you can’t have everything you want</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et hem see you being faithful</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to them about family financial issue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et them see you going without things you want because it would not be a wise purcha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y “education”</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enny power</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hecking account by high school</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redit card junior year</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nvestments senior year</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till seek dad’s advi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ising Money-Smart Kids</a:t>
            </a:r>
            <a:r>
              <a:rPr b="0" lang="en-US" sz="1200" spc="-1" strike="noStrike">
                <a:solidFill>
                  <a:srgbClr val="000000"/>
                </a:solidFill>
                <a:latin typeface="Times New Roman"/>
              </a:rPr>
              <a:t> by Ron and Judy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th &amp; money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dg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v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rison shopp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c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dit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th/innumeracy - taxes on people who can’t do ma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bling/lotte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9¢ vs $2.09</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ss some good jok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jumpstartcoalition.or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education-world.com/a_lesson/lesson232.shtm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those who are married or engaged or for those who have children, money management is not something that should be handled exclusively by one person. Everyone who is affected by it should be able to offer input and be aware of the family’s financial statu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spite what contemporary culture tries to tell us, there are biblical roles for husbands and wives that are still important today. A full study of the roles is beyond the scope of this study and is well-covered by other resources (“Rocking the Roles”). However, we do need to briefly look at how the roles affect money management.</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ove as Christ would</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feed &amp; c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ich is given more attention, the role or the responsibilit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hrist is to be the model for the husband’s role. What did Christ say about His responsibil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not to be served but to serve</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f a husband is to do what is recommended, that places him in the role of the provider as well as the head. That is not to say summarily that women cannot work outside of the home, but providing what is needed for the family  is the husband’s responsibil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om the time of creation, what has been one of the wife’s primary ro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word used here for “helper” is otherwise used only referring to God. Also translated (in NIV) as “staff” and strength”</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addition to her primary responsibility as help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verent living</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ove husband &amp; children</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busy at hom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aking advantage of natural gifts and preference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f the wife is gifted in money management, don’t ignore that; husband is still the head, though</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nalogy: elder board &amp; church staff</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iscussion even if the other isn’t gifted in a particular area</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laining it helps insure you understand it and have thought it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3% have separate and joint accou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0 + 14 + 11+ 11 = 56%</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ing open about finances provides accountabil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ing and saving enough and in a timely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s it harder to hide areas of si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ctions (gambling, tobacco, etc) to adulte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erpower%20point"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newerpower%20point"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Train a child in the way he should go, and when he is old he will not depart from it.”</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22:6</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108"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art Talking</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ow do each of you view money?</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ow much would you like to be giving?</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ow much would you like to be saving?</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If one of you loses you job, how would you handle it?</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re you “penny-pinchers” or “money-burners”?</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or those not yet married, what debt will be brought into the marriage?</a:t>
            </a:r>
            <a:endParaRPr b="0" lang="en-US" sz="2400" spc="-1" strike="noStrike">
              <a:solidFill>
                <a:srgbClr val="000000"/>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110"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art Talking</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are your dreams and ideals?</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are your retirement ideas?</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re there any spending limits that need to be set?</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Do either of you want to pursue further education?</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provisions would you like to make for your children?</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would you like to do with your estate?</a:t>
            </a:r>
            <a:endParaRPr b="0" lang="en-US" sz="2400" spc="-1" strike="noStrike">
              <a:solidFill>
                <a:srgbClr val="000000"/>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hildren</a:t>
            </a:r>
            <a:endParaRPr b="0" lang="en-US" sz="3600" spc="-1" strike="noStrike">
              <a:solidFill>
                <a:srgbClr val="000000"/>
              </a:solidFill>
              <a:latin typeface="Copperplate"/>
            </a:endParaRPr>
          </a:p>
        </p:txBody>
      </p:sp>
      <p:sp>
        <p:nvSpPr>
          <p:cNvPr id="112" name="PlaceHolder 2"/>
          <p:cNvSpPr>
            <a:spLocks noGrp="1"/>
          </p:cNvSpPr>
          <p:nvPr>
            <p:ph/>
          </p:nvPr>
        </p:nvSpPr>
        <p:spPr>
          <a:xfrm>
            <a:off x="456840" y="1886040"/>
            <a:ext cx="8178840" cy="3752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acrificing</a:t>
            </a:r>
            <a:endParaRPr b="0" lang="en-US" sz="3200" spc="-1" strike="noStrike">
              <a:solidFill>
                <a:srgbClr val="000000"/>
              </a:solidFill>
              <a:latin typeface="Genev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aving</a:t>
            </a:r>
            <a:endParaRPr b="0" lang="en-US" sz="3200" spc="-1" strike="noStrike">
              <a:solidFill>
                <a:srgbClr val="000000"/>
              </a:solidFill>
              <a:latin typeface="Genev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ending</a:t>
            </a:r>
            <a:endParaRPr b="0" lang="en-US" sz="3200" spc="-1" strike="noStrike">
              <a:solidFill>
                <a:srgbClr val="000000"/>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hildren</a:t>
            </a:r>
            <a:endParaRPr b="0" lang="en-US" sz="3600" spc="-1" strike="noStrike">
              <a:solidFill>
                <a:srgbClr val="000000"/>
              </a:solidFill>
              <a:latin typeface="Copperplate"/>
            </a:endParaRPr>
          </a:p>
        </p:txBody>
      </p:sp>
      <p:sp>
        <p:nvSpPr>
          <p:cNvPr id="114"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easons to Teach</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57% of high school seniors have a checking account</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40% of teenagers have a credit card</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75% of undergrads carry credit card debt at an average of $1,843</a:t>
            </a:r>
            <a:endParaRPr b="0" lang="en-US" sz="2400" spc="-1" strike="noStrike">
              <a:solidFill>
                <a:srgbClr val="000000"/>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hildren</a:t>
            </a:r>
            <a:endParaRPr b="0" lang="en-US" sz="3600" spc="-1" strike="noStrike">
              <a:solidFill>
                <a:srgbClr val="000000"/>
              </a:solidFill>
              <a:latin typeface="Copperplate"/>
            </a:endParaRPr>
          </a:p>
        </p:txBody>
      </p:sp>
      <p:sp>
        <p:nvSpPr>
          <p:cNvPr id="11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lanning to Teach</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are some things that your parents taught you that you want to be sure to pass on to your children?</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are some things you wish your parents had taught you?</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or each of the 3 areas, make a list of things you want them to know.</a:t>
            </a:r>
            <a:endParaRPr b="0" lang="en-US" sz="2400" spc="-1" strike="noStrike">
              <a:solidFill>
                <a:srgbClr val="000000"/>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hildren</a:t>
            </a:r>
            <a:endParaRPr b="0" lang="en-US" sz="3600" spc="-1" strike="noStrike">
              <a:solidFill>
                <a:srgbClr val="000000"/>
              </a:solidFill>
              <a:latin typeface="Copperplate"/>
            </a:endParaRPr>
          </a:p>
        </p:txBody>
      </p:sp>
      <p:sp>
        <p:nvSpPr>
          <p:cNvPr id="118" name="PlaceHolder 2"/>
          <p:cNvSpPr>
            <a:spLocks noGrp="1"/>
          </p:cNvSpPr>
          <p:nvPr>
            <p:ph/>
          </p:nvPr>
        </p:nvSpPr>
        <p:spPr>
          <a:xfrm>
            <a:off x="456840" y="1886040"/>
            <a:ext cx="8178840" cy="3752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art Teaching</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y example</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y experience</a:t>
            </a:r>
            <a:endParaRPr b="0" lang="en-US" sz="28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hildren</a:t>
            </a:r>
            <a:endParaRPr b="0" lang="en-US" sz="3600" spc="-1" strike="noStrike">
              <a:solidFill>
                <a:srgbClr val="000000"/>
              </a:solidFill>
              <a:latin typeface="Copperplate"/>
            </a:endParaRPr>
          </a:p>
        </p:txBody>
      </p:sp>
      <p:sp>
        <p:nvSpPr>
          <p:cNvPr id="120"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art Teaching</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et them something to read</a:t>
            </a:r>
            <a:endParaRPr b="0" lang="en-US" sz="28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neva"/>
              </a:rPr>
              <a:t>Learn to Earn</a:t>
            </a:r>
            <a:r>
              <a:rPr b="0" lang="en-US" sz="2400" spc="-1" strike="noStrike">
                <a:solidFill>
                  <a:srgbClr val="000000"/>
                </a:solidFill>
                <a:latin typeface="Geneva"/>
              </a:rPr>
              <a:t> by Peter Lynch</a:t>
            </a:r>
            <a:endParaRPr b="0" lang="en-US" sz="24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ttp://www.zillions.org/</a:t>
            </a:r>
            <a:endParaRPr b="0" lang="en-US" sz="24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et them something to play</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et them something to do</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et them to study</a:t>
            </a:r>
            <a:endParaRPr b="0" lang="en-US" sz="28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ttp://www.kids.gov/k_money.htm</a:t>
            </a:r>
            <a:endParaRPr b="0" lang="en-US" sz="2400" spc="-1" strike="noStrike">
              <a:solidFill>
                <a:srgbClr val="000000"/>
              </a:solidFill>
              <a:latin typeface="Genev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ttp://www.themint.org/</a:t>
            </a:r>
            <a:endParaRPr b="0" lang="en-US" sz="2400" spc="-1" strike="noStrike">
              <a:solidFill>
                <a:srgbClr val="000000"/>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endParaRPr b="0" lang="en-US" sz="3600" spc="-1" strike="noStrike">
              <a:solidFill>
                <a:srgbClr val="000000"/>
              </a:solidFill>
              <a:latin typeface="Copperplate"/>
            </a:endParaRPr>
          </a:p>
        </p:txBody>
      </p:sp>
      <p:sp>
        <p:nvSpPr>
          <p:cNvPr id="122" name="PlaceHolder 2"/>
          <p:cNvSpPr>
            <a:spLocks noGrp="1"/>
          </p:cNvSpPr>
          <p:nvPr>
            <p:ph/>
          </p:nvPr>
        </p:nvSpPr>
        <p:spPr>
          <a:xfrm>
            <a:off x="456840" y="1886040"/>
            <a:ext cx="8178840" cy="3752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uring each week after the class, discuss what we talked about with your spouse and children.</a:t>
            </a:r>
            <a:endParaRPr b="0" lang="en-US" sz="2800" spc="-1" strike="noStrike">
              <a:solidFill>
                <a:srgbClr val="000000"/>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ouples</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ildren</a:t>
            </a:r>
            <a:endParaRPr b="0" lang="en-US" sz="3200" spc="-1" strike="noStrike">
              <a:solidFill>
                <a:srgbClr val="000000"/>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Husband’s Role</a:t>
            </a:r>
            <a:endParaRPr b="0" lang="en-US" sz="3200" spc="-1" strike="noStrike">
              <a:solidFill>
                <a:srgbClr val="000000"/>
              </a:solidFill>
              <a:latin typeface="Geneva"/>
            </a:endParaRPr>
          </a:p>
        </p:txBody>
      </p:sp>
      <p:sp>
        <p:nvSpPr>
          <p:cNvPr id="90" name=""/>
          <p:cNvSpPr/>
          <p:nvPr/>
        </p:nvSpPr>
        <p:spPr>
          <a:xfrm>
            <a:off x="457200" y="2514600"/>
            <a:ext cx="8381880" cy="126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For the husband is the head of the wife as Christ is the head of church, his body, of which he is the Savior.”</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phesians 5:2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92"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Husband’s Responsibilities</a:t>
            </a:r>
            <a:endParaRPr b="0" lang="en-US" sz="3200" spc="-1" strike="noStrike">
              <a:solidFill>
                <a:srgbClr val="000000"/>
              </a:solidFill>
              <a:latin typeface="Geneva"/>
            </a:endParaRPr>
          </a:p>
        </p:txBody>
      </p:sp>
      <p:sp>
        <p:nvSpPr>
          <p:cNvPr id="93" name=""/>
          <p:cNvSpPr/>
          <p:nvPr/>
        </p:nvSpPr>
        <p:spPr>
          <a:xfrm>
            <a:off x="457200" y="2514600"/>
            <a:ext cx="8381880" cy="30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Husbands, love your wives, just as Christ loved the church and gave himself up for her to make her holy, cleansing her by the washing with water through the word, and to present her to himself as a radiant church, without stain or wrinkle or any other blemish, but holy and blameless. In this same way, husbands ought to love their wives as their own bodies. He who loves his wife loves himself. After all, no one ever hated his own body, but he feeds and cares for it, just as Christ does the church — for we are members of his body.”</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phesians 5:25-3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95"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Husband’s Responsibilities</a:t>
            </a:r>
            <a:endParaRPr b="0" lang="en-US" sz="3200" spc="-1" strike="noStrike">
              <a:solidFill>
                <a:srgbClr val="000000"/>
              </a:solidFill>
              <a:latin typeface="Geneva"/>
            </a:endParaRPr>
          </a:p>
        </p:txBody>
      </p:sp>
      <p:sp>
        <p:nvSpPr>
          <p:cNvPr id="96" name=""/>
          <p:cNvSpPr/>
          <p:nvPr/>
        </p:nvSpPr>
        <p:spPr>
          <a:xfrm>
            <a:off x="457200" y="2514600"/>
            <a:ext cx="8381880" cy="27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Jesus called them together and said, ‘You know that the rulers of the Gentiles lord it over them, and their high officials exercise authority over them. Not so with you. Instead, whoever wants to become great among you must be your servant, and whoever wants to be first must be your slave — just as the Son of Man did not come to be served, but to serve, and to give his life as a ransom for many.’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Matthew 20:25-28</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98"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Wife’s Role</a:t>
            </a:r>
            <a:endParaRPr b="0" lang="en-US" sz="3200" spc="-1" strike="noStrike">
              <a:solidFill>
                <a:srgbClr val="000000"/>
              </a:solidFill>
              <a:latin typeface="Geneva"/>
            </a:endParaRPr>
          </a:p>
        </p:txBody>
      </p:sp>
      <p:sp>
        <p:nvSpPr>
          <p:cNvPr id="99" name=""/>
          <p:cNvSpPr/>
          <p:nvPr/>
        </p:nvSpPr>
        <p:spPr>
          <a:xfrm>
            <a:off x="457200" y="2514600"/>
            <a:ext cx="8381880" cy="29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The LORD God said, ‘It is not good for the man to be alone. I will make a helper suitable for hi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t for Adam no suitable helper was found. So the LORD God caused the man to fall into a deep sleep; and while he was sleeping, he took one of the man's ribs and closed up the place with flesh. Then the LORD God made a woman from the rib he had taken out of the man, and he brought her to the ma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Genesis 2:18, 20b-22</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10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Wife’s Responsibilities</a:t>
            </a:r>
            <a:endParaRPr b="0" lang="en-US" sz="3200" spc="-1" strike="noStrike">
              <a:solidFill>
                <a:srgbClr val="000000"/>
              </a:solidFill>
              <a:latin typeface="Geneva"/>
            </a:endParaRPr>
          </a:p>
        </p:txBody>
      </p:sp>
      <p:sp>
        <p:nvSpPr>
          <p:cNvPr id="102" name=""/>
          <p:cNvSpPr/>
          <p:nvPr/>
        </p:nvSpPr>
        <p:spPr>
          <a:xfrm>
            <a:off x="457200" y="2514600"/>
            <a:ext cx="8381880" cy="339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You must teach what is in accord with sound doctrine. Teach the older men to be temperate, worthy of respect, self-controlled, and sound in faith, in love and in endurance. Likewise, 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Titus 2:1-5</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104" name="PlaceHolder 2"/>
          <p:cNvSpPr>
            <a:spLocks noGrp="1"/>
          </p:cNvSpPr>
          <p:nvPr>
            <p:ph/>
          </p:nvPr>
        </p:nvSpPr>
        <p:spPr>
          <a:xfrm>
            <a:off x="456840" y="1886040"/>
            <a:ext cx="8178840" cy="3752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should the husband’s and wife’s roles be reflected in money management?</a:t>
            </a:r>
            <a:endParaRPr b="0" lang="en-US" sz="2800" spc="-1" strike="noStrike">
              <a:solidFill>
                <a:srgbClr val="000000"/>
              </a:solidFill>
              <a:latin typeface="Geneva"/>
            </a:endParaRPr>
          </a:p>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ow are you fulfilling your respective role?</a:t>
            </a:r>
            <a:endParaRPr b="0" lang="en-US" sz="2800" spc="-1" strike="noStrike">
              <a:solidFill>
                <a:srgbClr val="000000"/>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Family:</a:t>
            </a:r>
            <a:br>
              <a:rPr sz="3600"/>
            </a:br>
            <a:r>
              <a:rPr b="0" lang="en-US" sz="3600" spc="-1" strike="noStrike">
                <a:solidFill>
                  <a:srgbClr val="000000"/>
                </a:solidFill>
                <a:latin typeface="Copperplate"/>
              </a:rPr>
              <a:t>Couples</a:t>
            </a:r>
            <a:endParaRPr b="0" lang="en-US" sz="3600" spc="-1" strike="noStrike">
              <a:solidFill>
                <a:srgbClr val="000000"/>
              </a:solidFill>
              <a:latin typeface="Copperplate"/>
            </a:endParaRPr>
          </a:p>
        </p:txBody>
      </p:sp>
      <p:sp>
        <p:nvSpPr>
          <p:cNvPr id="106"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art Talking</a:t>
            </a:r>
            <a:endParaRPr b="0" lang="en-US" sz="28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30% of spouses don’t know how much their spouses make.</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70% of couples maintain separate account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inances are the #1 cause for disagreement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4% of people say money is a source of daily stres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20% of couples argue about financial goals.</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4% of husbands think their wives overspend.</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1% of wives think their husbands overspend.</a:t>
            </a:r>
            <a:endParaRPr b="0" lang="en-US" sz="2400" spc="-1" strike="noStrike">
              <a:solidFill>
                <a:srgbClr val="000000"/>
              </a:solidFill>
              <a:latin typeface="Genev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1% of couples argue about how much to save.</a:t>
            </a:r>
            <a:endParaRPr b="0" lang="en-US" sz="2400" spc="-1" strike="noStrike">
              <a:solidFill>
                <a:srgbClr val="000000"/>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46:59Z</dcterms:modified>
  <cp:revision>538</cp:revision>
  <dc:subject/>
  <dc:title>Welcome to the Good Sense Budget Course</dc:title>
</cp:coreProperties>
</file>